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48437"/>
        <c:axId val="29862806"/>
      </c:barChart>
      <c:catAx>
        <c:axId val="43484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62806"/>
        <c:crosses val="autoZero"/>
        <c:auto val="1"/>
        <c:lblAlgn val="ctr"/>
        <c:lblOffset val="100"/>
        <c:noMultiLvlLbl val="0"/>
      </c:catAx>
      <c:valAx>
        <c:axId val="298628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84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A3EE-CB63-4B49-BB5D-3D2DB3F4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0EA4-387C-400C-B947-9217D511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B0D7-6368-42F8-A098-2D267740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BDE8-9C3C-414F-90E9-F7037D87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9945-9E91-41FA-9FF5-8B06B788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B305-46EF-4298-8F03-7D8463D6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38E2-C072-40FA-836B-B85287F8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E889-0063-47E7-96D6-DD1C5FDB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574E-284F-4166-809A-528F9E6D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A442-01EE-403D-8DDF-958AE9ED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831B-C79F-40C1-A68C-C3EEFCCF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28DE-D02B-4D06-95A2-6C6AC63E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71C1E-F349-4AA6-B8BA-7DC270BB7F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