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18008"/>
        <c:axId val="34922029"/>
      </c:barChart>
      <c:catAx>
        <c:axId val="33318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22029"/>
        <c:crosses val="autoZero"/>
        <c:auto val="1"/>
        <c:lblAlgn val="ctr"/>
        <c:lblOffset val="100"/>
        <c:noMultiLvlLbl val="0"/>
      </c:catAx>
      <c:valAx>
        <c:axId val="34922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18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915-D30C-4CAA-900B-F00045B9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33D-7A07-4297-B34F-7DA23388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4B4-CD88-4C81-982D-C74A0744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468-B394-4173-909D-DDAEAE7F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F74-07D2-48FD-9951-BF400BC9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BF4-BAC8-4341-8209-0772886E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27D-892B-48EB-9225-31D0376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23E-6C80-4A96-8C08-DA30394C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689-3E9C-423B-B46B-14F5D86F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367-1A85-441F-A965-F8436E7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C6F-1439-4951-9901-65631F0A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3C2-0896-4CEA-AAD0-72CCDD6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29F3F-B60A-4660-93F6-59E2943D40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