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15456"/>
        <c:axId val="28606680"/>
      </c:barChart>
      <c:catAx>
        <c:axId val="30515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06680"/>
        <c:crosses val="autoZero"/>
        <c:auto val="1"/>
        <c:lblAlgn val="ctr"/>
        <c:lblOffset val="100"/>
        <c:noMultiLvlLbl val="0"/>
      </c:catAx>
      <c:valAx>
        <c:axId val="28606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5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16D-E003-4789-99AD-4E2B75B8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35F-FAF4-4DC9-826F-053FD62D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7B3-0BD0-462E-A623-4F6118BF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6A4-BA9F-40A1-8870-46BA4046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D86-5409-4525-A488-A1A1E83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FFA-BF4E-4B4E-9118-383CF3E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795-6C60-4BE0-852C-8AA689DD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989-7D1C-4021-8B4E-058692DD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A04-3316-4E8D-8CD4-0238011D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2DD-5E61-4698-8713-1FAE3B35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39D-6B04-4157-AF8E-3F9FDDDA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A65-67C6-4C3C-AAE9-1F107A10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917E4-56EE-45C3-82E2-664C6A7214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