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27014"/>
        <c:axId val="60994067"/>
      </c:barChart>
      <c:catAx>
        <c:axId val="423270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94067"/>
        <c:crosses val="autoZero"/>
        <c:auto val="1"/>
        <c:lblAlgn val="ctr"/>
        <c:lblOffset val="100"/>
        <c:noMultiLvlLbl val="0"/>
      </c:catAx>
      <c:valAx>
        <c:axId val="609940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270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3D8-A391-403E-8B56-E630DF11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B220-2D8D-4A3B-BD9B-073CEB86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DFAB-95CE-4516-949A-E9A54CC2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2289-29B2-4CC3-9EB9-896EC544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9549-82B2-4C68-9482-17EC7B92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C3B8-36EB-48E3-B7CF-B66B8455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5B40-2474-4840-A7BB-F4E82561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45EA-71D5-4632-88E7-412563C5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C599-BE95-47E0-978B-8A840312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099-3240-4941-9CFC-CC0A0AA6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2D28-B7F6-49B0-B7A3-2EDE9CE4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A04-0620-4633-B54D-171E7D83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BEA71-DAF7-42F5-A720-3FC86B7B5C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