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89396"/>
        <c:axId val="35505087"/>
      </c:barChart>
      <c:catAx>
        <c:axId val="12189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05087"/>
        <c:crosses val="autoZero"/>
        <c:auto val="1"/>
        <c:lblAlgn val="ctr"/>
        <c:lblOffset val="100"/>
        <c:noMultiLvlLbl val="0"/>
      </c:catAx>
      <c:valAx>
        <c:axId val="35505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89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571-100C-40F2-A9A0-F48555EE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300-FB40-408F-8ACA-CF02CF34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DAA-D17B-4817-9AC6-B6C72951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B8A-57CA-4CE2-AE28-639FED63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467-CAF9-4BAB-A753-753E6BF4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3CF-2789-4ED7-B08F-DF4A822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387-483E-430C-8AFA-10E4328F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DFE-5B62-4356-ABC4-9FABD31F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90D-3DCB-4F5D-8231-FAD9991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9FE-DA28-4149-BEC5-0960B53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C47-56FA-4009-9055-48707F2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BBE-6831-412B-A18B-CCE94D0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A3AE-33AF-4342-81C0-028DBE501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