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902914"/>
        <c:axId val="60002489"/>
      </c:barChart>
      <c:catAx>
        <c:axId val="179029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002489"/>
        <c:crosses val="autoZero"/>
        <c:auto val="1"/>
        <c:lblAlgn val="ctr"/>
        <c:lblOffset val="100"/>
        <c:noMultiLvlLbl val="0"/>
      </c:catAx>
      <c:valAx>
        <c:axId val="600024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9029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4C82-E387-45FC-A4AC-4E5D4953E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075D-E4AA-4BE1-8C80-0B61CA5E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A1FB-880E-4D86-BF71-3B05245D3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ABAD-E01C-4762-95AE-AAFA9601B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3274-103F-4C59-B8A8-785C9068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D249-41F1-4DDA-8AB2-C36367FA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22AF-CA89-4FF3-B15F-7D8399DB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AF40-2D3A-44BC-8B23-1936B496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C8C4-5807-45F9-A1A1-21881287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1C67-B7C7-405A-AEF6-C216A043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2628-AAFC-4476-9C6B-D525517E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457B-1074-42F5-8CCE-B538082C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AF3197-8470-4279-8ACE-F0AC19EEBD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