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260532"/>
        <c:axId val="87736649"/>
      </c:barChart>
      <c:catAx>
        <c:axId val="112605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36649"/>
        <c:crosses val="autoZero"/>
        <c:auto val="1"/>
        <c:lblAlgn val="ctr"/>
        <c:lblOffset val="100"/>
        <c:noMultiLvlLbl val="0"/>
      </c:catAx>
      <c:valAx>
        <c:axId val="877366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605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5596-3A30-4A14-B6B1-9B4D15D2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C054-5D88-49C6-8641-7F57C2E3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58CB-E7E6-461B-94A8-3821C3F5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5A70-515C-400D-BCA7-3E45CB45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662D-3146-4636-BFB1-334AA110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CD05-8E58-4C7E-B347-3F0CFE0A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28ED-040C-4522-8ED4-BA72D962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7999-4D33-461F-B371-DD66F597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82EF-C77E-4D29-9C27-7AC4A1BC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0B6C-3103-4B1A-9012-17EF23A1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BC55-BA1B-4FF6-AA3A-905984B2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0154-329E-4F5D-B6B3-3B823D5A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252CA-B2C2-43D9-BD35-F877A76555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