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868518"/>
        <c:axId val="18602925"/>
      </c:barChart>
      <c:catAx>
        <c:axId val="708685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02925"/>
        <c:crosses val="autoZero"/>
        <c:auto val="1"/>
        <c:lblAlgn val="ctr"/>
        <c:lblOffset val="100"/>
        <c:noMultiLvlLbl val="0"/>
      </c:catAx>
      <c:valAx>
        <c:axId val="186029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685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4D21-92DC-4A3E-B8C1-AA250DF4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92B-AA3B-4661-8280-6F40BB23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914-44A2-44B5-BB2A-7A418484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4C8-3E6B-4CAF-93E5-894FD306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F829-611E-4155-8B54-4E8405A8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A9A-2E56-4DFE-B6B3-D7896F6A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396C-0678-42F5-90AC-84C89634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35F3-13C8-4994-972F-1BB01F6D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125-8173-4436-A092-14AB564B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C9E-D844-4702-A649-DE69A5D5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B52A-ED2E-4DB3-8B07-11507EE4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58BF-1E53-48C5-B017-AE796E3B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79DD3-DED9-4A48-9341-D8FFE20956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