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14718"/>
        <c:axId val="59904156"/>
      </c:barChart>
      <c:catAx>
        <c:axId val="41114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4156"/>
        <c:crosses val="autoZero"/>
        <c:auto val="1"/>
        <c:lblAlgn val="ctr"/>
        <c:lblOffset val="100"/>
        <c:noMultiLvlLbl val="0"/>
      </c:catAx>
      <c:valAx>
        <c:axId val="59904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14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C44-4A75-4D39-B90E-940D6AEA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064-3B80-42DC-83E2-9DEF591C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94E-32DF-4D5F-9852-1DE9644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CAF-E92B-4FA4-A29E-4FF63695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7F8-8CDF-4C37-A95E-81D8CE2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958-06A2-4852-B0D5-CEA75D8A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77C-52A4-410D-B0E5-CC930920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999-4C36-4A86-998F-F67DE70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59D-3AD8-4EA2-BFCA-F124936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899-1144-4B06-9AD7-B149616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8EC-0098-44FF-8E96-7569F9A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40B-A122-4DBA-8FBB-7D379FD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AC961-6CBF-450A-8759-F675AB35C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