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10527"/>
        <c:axId val="72913932"/>
      </c:barChart>
      <c:catAx>
        <c:axId val="96810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13932"/>
        <c:crosses val="autoZero"/>
        <c:auto val="1"/>
        <c:lblAlgn val="ctr"/>
        <c:lblOffset val="100"/>
        <c:noMultiLvlLbl val="0"/>
      </c:catAx>
      <c:valAx>
        <c:axId val="72913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0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9B2-15EB-451F-B752-C9529F9D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00B-B1A3-4BFE-BF9F-0E1CCE4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FCF-D0E8-4504-941A-C0014B5D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DDA-9F02-41C9-9443-614D370F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5E6-A58E-44AC-A57F-3DBECEA6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152-48BD-4F04-867E-A92ACC1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BEF-85D7-4D42-9667-C88CDE13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1FB-2C87-48E1-A69E-380EBA8E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F8D-16FB-49B3-8CD4-3387608B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1C1-079E-456F-BF6A-008235A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E70-996B-4217-87B1-F6C8FE4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C3F-5F0D-453E-A90A-AEC5C18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EDA99-B511-4B34-8D7E-C3BC8A062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