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332088"/>
        <c:axId val="22120224"/>
      </c:barChart>
      <c:catAx>
        <c:axId val="633320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20224"/>
        <c:crosses val="autoZero"/>
        <c:auto val="1"/>
        <c:lblAlgn val="ctr"/>
        <c:lblOffset val="100"/>
        <c:noMultiLvlLbl val="0"/>
      </c:catAx>
      <c:valAx>
        <c:axId val="221202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320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41DE-9002-4A14-84CB-300D81FE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3910-9427-4C84-92FA-BC2C5F96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F7D0-EA77-4797-99D1-36EC3F1E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6B64-2312-41F2-A1D3-D695795A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C271-C65B-4CE9-80F4-1DB9A7EB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373E-DC2B-4CBE-B2C1-6ACA205A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19F0-20FF-4E0F-81DD-30422AB4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ED1D-D64D-4FFD-AF90-0BFF5526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37F4-E4B6-4207-8A56-D67CA8D6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A5F0-A77D-443E-8884-F856A29C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BA43-7DD3-427B-A334-D6340C9A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B95D-7329-4349-A58C-FE26B714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6F3D8-E37F-40FB-9BF3-F248A9F4D1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