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732424"/>
        <c:axId val="9865026"/>
      </c:barChart>
      <c:catAx>
        <c:axId val="357324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5026"/>
        <c:crosses val="autoZero"/>
        <c:auto val="1"/>
        <c:lblAlgn val="ctr"/>
        <c:lblOffset val="100"/>
        <c:noMultiLvlLbl val="0"/>
      </c:catAx>
      <c:valAx>
        <c:axId val="98650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324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5E77-FD79-4ED9-9DB0-13DB33A0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3D49-FE23-4499-9EB7-0E2CF085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243B-64EC-40C7-B2D4-CA1BDB94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C002-929A-475D-880C-223260C6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750B-6A2B-4971-B855-5780650C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FC3C-9A0A-4F04-83A4-02AD031C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7C6-299A-44E2-9AF4-909EE3E0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44EC-2064-4EDC-87EF-D44E9E54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260-0DD1-4C85-8109-139E409A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5C2D-44D6-4844-92B3-77BBDED2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214D-B94E-4AC5-9DCB-2F854C78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9D4E-791E-422A-B20F-9104321C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4FC30-1039-42E6-AC5C-6D26B8C18B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