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73585"/>
        <c:axId val="18220371"/>
      </c:barChart>
      <c:catAx>
        <c:axId val="11173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20371"/>
        <c:crosses val="autoZero"/>
        <c:auto val="1"/>
        <c:lblAlgn val="ctr"/>
        <c:lblOffset val="100"/>
        <c:noMultiLvlLbl val="0"/>
      </c:catAx>
      <c:valAx>
        <c:axId val="18220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3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385-A47C-43E9-9280-2D442828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DA9-043B-4D08-B969-6B43634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113-F489-405E-8C9A-9E79924D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9EA-84CE-449A-A405-06D1DAA7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E26-F1D0-420F-87EB-90AA1118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D03-4A71-4B05-A962-C7A05BB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F34-2C63-406C-8C86-2A6AF9E9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9C8-5A81-4EB9-A67E-634A4BA5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AE8-E4BE-44D1-93DA-823CBB7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439-0F69-4883-9165-C2DA2417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AB8-8094-47E2-8A33-80A246A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B83-E155-49E3-BFC2-BE14EBF4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C150E-8005-40E2-9DB6-D73C9417B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