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31191"/>
        <c:axId val="47446006"/>
      </c:barChart>
      <c:catAx>
        <c:axId val="19431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46006"/>
        <c:crosses val="autoZero"/>
        <c:auto val="1"/>
        <c:lblAlgn val="ctr"/>
        <c:lblOffset val="100"/>
        <c:noMultiLvlLbl val="0"/>
      </c:catAx>
      <c:valAx>
        <c:axId val="47446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31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1F9-5C16-417A-BF28-C90BC223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26F-C0DD-4F08-9AAA-1AF243E5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4B0-346E-43D0-A03F-DEB68919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B19-A29A-44B7-BEC1-41F45D9C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03D-765E-4E1A-A927-DA350A7C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575-5CAC-4354-91EF-D95BE02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EB5-93CE-4459-BCF7-85F86B50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338-D58E-4B2B-A25E-267BFA97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895-A7BF-459A-993C-A430FF83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0ED-55A6-4174-A822-6575224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D45-5056-4346-A70F-21FEAC42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DF4-2D7D-42F6-A53F-7FABE029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0C451-8486-44FD-B961-EFF347234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