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79559"/>
        <c:axId val="16187601"/>
      </c:barChart>
      <c:catAx>
        <c:axId val="331795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87601"/>
        <c:crosses val="autoZero"/>
        <c:auto val="1"/>
        <c:lblAlgn val="ctr"/>
        <c:lblOffset val="100"/>
        <c:noMultiLvlLbl val="0"/>
      </c:catAx>
      <c:valAx>
        <c:axId val="161876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795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8D6-2878-4180-A421-7FE3F80A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FC98-72E8-47A5-80E7-85C4C28F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C9E1-DE06-4CD6-9001-DDDD68FA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06FB-C6C2-401B-9837-A5DD1E27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4D00-E2BA-4960-9D12-F816F30F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850-6C3C-442B-9C65-5059074F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452E-53BE-4FDF-A31D-1B430AB2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C5D5-6B4E-4C25-BD2A-9B9F6D11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ED12-140E-4BFB-8939-4A41FA12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5CC-FE45-43A6-952C-04312018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FED-4433-4139-B871-8D878E8A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5CDC-E697-4806-BFA8-9F0224BA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FD505-921C-4ADA-ABD9-005012794D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