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71612"/>
        <c:axId val="42436727"/>
      </c:barChart>
      <c:catAx>
        <c:axId val="24571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36727"/>
        <c:crosses val="autoZero"/>
        <c:auto val="1"/>
        <c:lblAlgn val="ctr"/>
        <c:lblOffset val="100"/>
        <c:noMultiLvlLbl val="0"/>
      </c:catAx>
      <c:valAx>
        <c:axId val="42436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71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E09-8EE6-48FC-AD98-1B4B0319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0A6-EDE9-4268-83BD-C77EA68A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660-A022-4293-BC4F-211AA710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719-E2BD-4B33-9B8A-721B4BA5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6D6-9D40-4050-AE73-2E28B045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A46-92D0-4405-B2CA-772959CF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4C3-8A0B-49B8-A5E0-33482ABA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2FC-0167-4793-9263-BC46AC92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DFE-5DE2-4A88-8AE6-C80EFCF5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AD2-28C9-4AF0-8E02-A60BB2F4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F48-7976-43CA-A39B-64971464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686-6F05-46AE-995B-0657920F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56A6F-C075-454F-8AC4-9102070735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